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ACC8B-D861-4423-BEC5-936000265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E1304-B699-4C45-A7C0-DF77554E5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9ECBD-DEDC-47CF-A238-2EF7479DB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131B7-7252-432B-8214-A1C22B776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8C8CB-66BC-46AC-A258-415BF2288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C817E-4C3B-4800-91A8-9C2BF6A98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7DFB1-BD41-4282-8348-6B4AC3384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C34E2-E02E-4250-B91A-EEB27C342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E1B51-8D95-4C9A-9B8B-48C1833F2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46031-3588-48B1-8D4D-CFD2F344C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DB543-06BE-4757-8824-5BA0C7432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5C9FF-F20A-44D9-BEFA-570E150BB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4A004-4BD2-4948-B385-52E808C811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2819520" y="4572000"/>
            <a:ext cx="374328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Sesiunea iunie - iulie</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advTm="5000">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66"/>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
          <p:cNvPicPr/>
          <p:nvPr/>
        </p:nvPicPr>
        <p:blipFill>
          <a:blip r:embed="rId1"/>
          <a:stretch/>
        </p:blipFill>
        <p:spPr>
          <a:xfrm>
            <a:off x="5257800" y="1752480"/>
            <a:ext cx="2943360" cy="3019680"/>
          </a:xfrm>
          <a:prstGeom prst="rect">
            <a:avLst/>
          </a:prstGeom>
          <a:ln w="0">
            <a:noFill/>
          </a:ln>
        </p:spPr>
      </p:pic>
    </p:spTree>
  </p:cSld>
  <p:transition advTm="5000">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p:transition advTm="5000">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s13b2</cp:lastModifiedBy>
  <dcterms:modified xsi:type="dcterms:W3CDTF">2012-06-18T10:57:56Z</dcterms:modified>
  <cp:revision>30</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